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C80-9FAB-4A1F-84F9-B93ADAD5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670-F919-42D7-8718-7BDE8A0D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FB6-7F52-440D-B264-EA192160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3E0-E8CB-4E26-856E-215BAFA6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8C1-1BEC-4FF3-8926-BF42A12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C75-371E-4C40-8019-380DF70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21F7-C439-47C1-AEB6-BC0FD4E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27F-4EA8-49A2-8408-1E7625B8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C7D-5706-4FC8-8D85-955FFAF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ABE-A9FA-4C99-8D84-80D88FF7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F49-3810-4556-AC3A-C98EE36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504-1CD1-4B09-849E-03239665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3D3E-41F1-4355-B5EC-FCC66EBE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BF3-E39C-4554-9681-B7B7836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BAF-7B64-4ED7-BC14-7B16CAC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F22-E55E-460E-A95B-00A0C9AD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677-5202-4CD3-87E1-7B730629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73E-CBAC-4AF5-A26B-B7728051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396-97F8-4FE9-9979-67BC4C8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431-065B-43AC-88ED-013280B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80B-986A-4266-A845-B7ABDE7B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039-A7E5-452E-B891-3AAC83E8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D21-55F1-4525-AFE3-9D1A92C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CF0-9EF2-4F00-8443-752F72B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56B-0B59-4421-88DF-7B743EC55987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C00-86AB-4807-9EE4-CA91A086DB9F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29e4"/>
                </a:solidFill>
                <a:latin typeface="Arial Black"/>
              </a:rPr>
              <a:t>Tension in the Coloni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Increased Royal Control</a:t>
            </a: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Colonists could not settle west of the Appalachian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Limits coloni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42670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New Taxes and Regulations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ugar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Increased taxes on sugar and mo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tamp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New taxes on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Requires almost all printed material to have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Te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Increased tea tax and cuts out colonial involvement in tea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British Control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Quartering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Requires colonists to house British soldiers in barracks, homes, or tav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British could seize imported goods without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uspected smugglers were arrested and guilty until proven inn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Colonial Uprisings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Boston Mass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British soldiers shoot at colonials rioting in th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Members of Sons of Liberty board British ships at night and throw 342 chests of tea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05:04Z</dcterms:created>
  <dc:creator>Dave Moffa</dc:creator>
  <dc:description/>
  <dc:language>en-US</dc:language>
  <cp:lastModifiedBy>Dave Moffa</cp:lastModifiedBy>
  <cp:lastPrinted>1904-01-01T00:00:00Z</cp:lastPrinted>
  <dcterms:modified xsi:type="dcterms:W3CDTF">2010-11-10T02:26:01Z</dcterms:modified>
  <cp:revision>12</cp:revision>
  <dc:subject/>
  <dc:title>Tension in the Colonies</dc:title>
</cp:coreProperties>
</file>